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globul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8" idx="3"/>
            <a:endCxn id="100" idx="1"/>
          </p:cNvCxnSpPr>
          <p:nvPr/>
        </p:nvCxnSpPr>
        <p:spPr>
          <a:xfrm flipV="1">
            <a:off x="3313080" y="4080600"/>
            <a:ext cx="2699280" cy="18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924120" y="54936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globul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ypergamma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globul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ypergamma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lobul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23400" y="549360"/>
            <a:ext cx="51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globulinämie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&gt; Hypergammaglobul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3" idx="3"/>
            <a:endCxn id="10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chronisch persistierend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ntzünd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Leishman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hrlich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epatozoonose, FIP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multiples Myelom/Plasmozytom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6153480"/>
            <a:ext cx="307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P = feline infektiöse Peritoniti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5T13:32:03Z</dcterms:modified>
  <cp:revision>326</cp:revision>
  <dc:subject/>
  <dc:title>Vorstellung einer Neuheit</dc:title>
</cp:coreProperties>
</file>